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3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154-1C15-4834-88A8-508641A6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C03-B29F-4D58-A384-40E6975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795-2354-4FC6-8A44-9BCBB499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B91-5C51-453D-9378-48FDD18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136-6769-464F-994E-97C7A253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7B2-C918-42C5-8612-D804B87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A42-C182-472C-A92C-028075B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A33F-DD67-45EF-AAE6-4AB69A2E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D90-E873-4F55-BF1A-41282791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F45E-93AD-41C9-9811-665F6A27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342D-5D0A-47FE-B994-B58E45B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212-F84A-4FF3-94D5-05CEA979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3C4-6A0B-46CC-BC3A-7168F58E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B980-A50B-473D-A5B1-6FD5F6B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472B-6971-446C-BB5D-F670158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DF3-A282-4202-AB80-C841251F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393B-20C3-4653-B158-4B339796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5B45-600C-4432-9378-2F593F06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B89F-3876-4C6B-9213-1E760CF0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D5A7-74A8-4128-8602-9A98D84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6EF7-6FC9-4B0A-8C3F-32B683B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12B1-523D-4796-BD98-B37E3C14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97A-36D5-4BCA-BD11-F94C250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98B5-9BD9-4F6B-968E-7BBC5C9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4820-1F74-4DF0-AAE7-AC1FCBCB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A69B-253B-4D06-9EAC-6FB2379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805E-4077-4AA9-832C-A65654C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3587-B9FD-4201-AAE2-DBDD9D1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37CD-7753-40E1-BB91-770D819B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8883-7BCD-4A4D-A8B1-73506ABB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A305-B15C-4288-ADC0-E0C28DE3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B2F0-D826-485A-980B-ECD1AD1A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54CB-020D-4EA5-98D8-25545383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3B2-80EF-4264-BB04-57E206D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2E01-6BCF-4DE2-BC61-46AA9FB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9DCE-D315-4361-B754-4500BB5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23F5-42C6-4E49-AC7D-00594AB1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4812-13CE-4454-96D5-71AE6F0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DC74-529D-4EB1-B800-6B30DD1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7309-A3F7-4BB0-8406-6C6CE1B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870E-C1FC-4760-B96C-ACE4C58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D860-11D2-432A-AE17-177FBA7D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E1B8-65BE-4158-8ADD-DB41E4C6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C7BF-E665-437C-A484-BB340538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127-1FD7-49BA-850A-BE1109D7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36ED-CE7E-46F8-8C0D-0AA7167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474B-B7E2-413F-B6E9-2A36862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C0C7-5ED7-4B4F-8448-4C4A0F4F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F698-EFB4-4751-8FED-4FF775B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B1E7D-CA45-4B8E-931C-076B872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BAB1-6BF0-4C9F-9F7A-3F2DB02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1C78-B2F1-468A-B078-E190E3B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6CFD-52D7-485F-8B5B-4D23D38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92684-0A89-4AF3-A136-998BF470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E81D-E1F6-4B84-B426-765101AD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789-B9B2-450B-BD5A-0DE5693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128E-B578-46F4-B842-57D90AA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D914-0D53-4E47-9AC0-7792B42A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C63F-3EE3-416C-BAED-CFAA93D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B4E1-55A6-4FC1-ACED-6CADB7B9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73CA-D3A6-4F53-A9E4-8CBCCED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7514-B8C9-4123-B653-DD9BE0A4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0BC5-F338-42EA-8175-4C13A55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F63E-42C8-4E50-B970-BAD85CD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C8BF-FCEA-4CAC-A947-A41A2FB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90C1-1D83-4490-89CF-1E812F8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C21-C5F8-4308-B095-8825396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5F08-EFA3-4D5C-B1AF-7D5CCFAA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CCF6-9E27-46B7-A2F2-9B61397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26ED-9095-463D-A622-F455C016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AB3-4CED-484F-AB50-B9AF660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E8-74CD-456F-BB1D-839EC39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832-E095-43CA-B90C-CDAB75CDBFB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899-56BB-46F8-9FF3-5355DF439A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ADEC-F205-4D79-9695-2F6528C6B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59A-DC67-41A0-9403-43F91E92FAF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76C-326A-4F00-B5A3-83A3FA18C9D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7692-CB48-42D8-972D-D97B3966FBF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purpleflames.yolasite.com/resources/7-violet-purple-flames-tm-1-500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Title 7" descr=""/>
          <p:cNvPicPr/>
          <p:nvPr/>
        </p:nvPicPr>
        <p:blipFill>
          <a:blip r:embed="rId2"/>
          <a:stretch/>
        </p:blipFill>
        <p:spPr>
          <a:xfrm>
            <a:off x="682560" y="371520"/>
            <a:ext cx="7875720" cy="3114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By Charlie Solom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998 NFC Championship 30-2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Falc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8" name="Picture 2" descr="http://sportsillustrated.cnn.com/football/nfl/1998/playoffs/news/1999/01/17/vikings_anderson/t1_anderson_ap_01.jpg"/>
          <p:cNvPicPr/>
          <p:nvPr/>
        </p:nvPicPr>
        <p:blipFill>
          <a:blip r:embed="rId2"/>
          <a:stretch/>
        </p:blipFill>
        <p:spPr>
          <a:xfrm>
            <a:off x="2743200" y="1143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www.osovo.com/pics/crying/crying-babies06.jpg"/>
          <p:cNvPicPr/>
          <p:nvPr/>
        </p:nvPicPr>
        <p:blipFill>
          <a:blip r:embed="rId1"/>
          <a:stretch/>
        </p:blipFill>
        <p:spPr>
          <a:xfrm>
            <a:off x="2971800" y="19810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solomons\Local Settings\Temporary Internet Files\Content.IE5\D61WU4DR\MC910217125[1].wmf"/>
          <p:cNvPicPr/>
          <p:nvPr/>
        </p:nvPicPr>
        <p:blipFill>
          <a:blip r:embed="rId2"/>
          <a:stretch/>
        </p:blipFill>
        <p:spPr>
          <a:xfrm>
            <a:off x="3200400" y="152280"/>
            <a:ext cx="2954160" cy="28958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2590920" y="55627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070840" cy="1676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IV 23-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hief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2" descr="http://www.offworldvision.com/web/afl2root/pages/champs/jpg/sb4_kcd.jpg"/>
          <p:cNvPicPr/>
          <p:nvPr/>
        </p:nvPicPr>
        <p:blipFill>
          <a:blip r:embed="rId2"/>
          <a:stretch/>
        </p:blipFill>
        <p:spPr>
          <a:xfrm>
            <a:off x="2590920" y="1600200"/>
            <a:ext cx="4047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VIII 24-1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Dolphi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2" descr="http://www.netbrawl.com/uploads/efcc24e80b023ed328a5758b586f3f98.jpg"/>
          <p:cNvPicPr/>
          <p:nvPr/>
        </p:nvPicPr>
        <p:blipFill>
          <a:blip r:embed="rId2"/>
          <a:stretch/>
        </p:blipFill>
        <p:spPr>
          <a:xfrm>
            <a:off x="2438280" y="1295280"/>
            <a:ext cx="437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3520" y="56386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IX 16-6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Steele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9" name="Picture 2" descr="http://i.cdn.turner.com/si/multimedia/photo_gallery/0901/steelers.superbowl.highlights/images/lambert-ham.jpg"/>
          <p:cNvPicPr/>
          <p:nvPr/>
        </p:nvPicPr>
        <p:blipFill>
          <a:blip r:embed="rId2"/>
          <a:stretch/>
        </p:blipFill>
        <p:spPr>
          <a:xfrm>
            <a:off x="2514600" y="1143000"/>
            <a:ext cx="40384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520" y="571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XI 32-14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Raide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2" name="Picture 2" descr="http://prod.static.raiders.clubs.nfl.com/assets/images/history/MarkvanEeghenSB1.jpg"/>
          <p:cNvPicPr/>
          <p:nvPr/>
        </p:nvPicPr>
        <p:blipFill>
          <a:blip r:embed="rId2"/>
          <a:stretch/>
        </p:blipFill>
        <p:spPr>
          <a:xfrm>
            <a:off x="1981080" y="1295280"/>
            <a:ext cx="5238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33520" y="571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9-17 Loss in 2003 to miss Playoff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ardinal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2" descr="http://www.parkerliveonline.com/wp-content/uploads/2011/08/Arizona-Cardinals-Logo.jpg"/>
          <p:cNvPicPr/>
          <p:nvPr/>
        </p:nvPicPr>
        <p:blipFill>
          <a:blip r:embed="rId2"/>
          <a:stretch/>
        </p:blipFill>
        <p:spPr>
          <a:xfrm>
            <a:off x="2209680" y="1143000"/>
            <a:ext cx="4673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00 NFC Championship 41-0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Gia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2" descr="http://scm-l3.technorati.com/10/08/24/16825/New-York-Giants.jpg"/>
          <p:cNvPicPr/>
          <p:nvPr/>
        </p:nvPicPr>
        <p:blipFill>
          <a:blip r:embed="rId2"/>
          <a:stretch/>
        </p:blipFill>
        <p:spPr>
          <a:xfrm>
            <a:off x="2666880" y="10666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09 NFC Championship 27-24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Sai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2" descr="http://eorsini.files.wordpress.com/2010/02/favre-vikings2.jpg"/>
          <p:cNvPicPr/>
          <p:nvPr/>
        </p:nvPicPr>
        <p:blipFill>
          <a:blip r:embed="rId2"/>
          <a:stretch/>
        </p:blipFill>
        <p:spPr>
          <a:xfrm>
            <a:off x="4191120" y="1905120"/>
            <a:ext cx="3709800" cy="3047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images.publicradio.org/content/2010/01/24/20100124_saintswin_33.jpg"/>
          <p:cNvPicPr/>
          <p:nvPr/>
        </p:nvPicPr>
        <p:blipFill>
          <a:blip r:embed="rId3"/>
          <a:stretch/>
        </p:blipFill>
        <p:spPr>
          <a:xfrm>
            <a:off x="1676520" y="1060560"/>
            <a:ext cx="35812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oger Staubach: THE Hail Mar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owboy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5" name="Picture 2" descr="http://taylorblitztimes.files.wordpress.com/2011/07/drewpearson5.jpg?w=1024&amp;h=673"/>
          <p:cNvPicPr/>
          <p:nvPr/>
        </p:nvPicPr>
        <p:blipFill>
          <a:blip r:embed="rId2"/>
          <a:stretch/>
        </p:blipFill>
        <p:spPr>
          <a:xfrm>
            <a:off x="1905120" y="1143000"/>
            <a:ext cx="53337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3:09:03Z</dcterms:created>
  <dc:creator>solomons</dc:creator>
  <dc:description/>
  <dc:language>en-US</dc:language>
  <cp:lastModifiedBy>solomons</cp:lastModifiedBy>
  <dcterms:modified xsi:type="dcterms:W3CDTF">2011-09-16T04:47:05Z</dcterms:modified>
  <cp:revision>11</cp:revision>
  <dc:subject/>
  <dc:title>Nine Layers of Minnesota Vikings HELL</dc:title>
</cp:coreProperties>
</file>